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907200" cy="674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9907560" cy="67420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907560" cy="67420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1"/>
          </p:nvPr>
        </p:nvSpPr>
        <p:spPr>
          <a:xfrm>
            <a:off x="5271840" y="6315120"/>
            <a:ext cx="425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6F876F3F-60BD-4BA7-B58C-2FABE3FDE8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953400" y="103320"/>
            <a:ext cx="2384280" cy="328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3286080" y="518760"/>
            <a:ext cx="3386160" cy="25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2360" cy="30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056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340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056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340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695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T.Tammet    Programmeerimise algkursus</a:t>
            </a:r>
            <a:r>
              <a:rPr b="1" lang="et-EE" sz="1000" spc="-1" strike="noStrike">
                <a:solidFill>
                  <a:srgbClr val="6666ff"/>
                </a:solidFill>
                <a:latin typeface="Arial"/>
              </a:rPr>
              <a:t>      </a:t>
            </a: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 loeng 2   lk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AA608E42-E028-4F25-838F-25CCD8AD7031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20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algkur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20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5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imitive TYP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6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imitive types are nam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yte, short, int, long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, double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rresponds to two bytes (16 bits). Variables of type short have values in the range -32768 to 32767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rresponds to four bytes (32 bits). Variables of type int have values in the range -2147483648 to 2147483647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rresponds to eight bytes (64 bits). Variables of type long have values in the range -922337203685477580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t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9223372036854775807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sult: rate &gt; 0.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I said, \"Are you listening!\"\n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Variable assign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81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x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ate = 0.07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space = ' '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reate several variables in the same declaration, if you separate them by commas. For 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x,y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 = 'D'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ddle = 'J'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st = 'E'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, j = 17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nterest calcul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98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Interest {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he value of the investment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rincipal = 17000;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he annual interest 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rate = 0.07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nterest earned in one ye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interest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est = principal * rate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cipal = principal + interes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The interest earned is $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terest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The value of the investment after one year is $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principal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end of main()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end of class Inter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8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lock is the simplest type of statement. Its purpose is simply to group a sequence of statements into a single statement. The format of a block 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 are two examples of block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The answer is "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ans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 // This block exchanges the values of x and 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temp = x;  // declare temp and store x in 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y;         // copy value of y into 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= temp;      // copy value of temp into 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1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ile LOOP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6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hile loop has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statement can be, and usually is, a block, many while loops have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1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ile LOOP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is an example of a while loop that simply prints out the numbers 1, 2, 3, 4, 5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ber = 1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 number &lt; 6 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number + 1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Done!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2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ile LOOP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80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Interest2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rincipal = 17000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rate = 0.07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years = 0;  // counts yea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years &lt; 5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interest = principal * rate;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cipal = principal + interes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ears = years + 1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The value of the investment after 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year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years is $");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principal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end of while loop     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end of main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end of class Interest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2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F state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5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if statement has one of the form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usual, each of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in an if statement can be a block, so that an if statement often looks lik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) {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3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F state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840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x &gt; y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emp = x;  // declare temp and store x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= y;         // copy value of y into 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temp;      // copy value of temp into 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ly, here is an example of an if statement that includes a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par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years &gt; 1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The value of the investment after 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year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years is $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{  // handle case for 1 ye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The value of the investment after 1 year is $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 // end of if 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principal)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3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7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eeldetuletus: kompileerimine, käivitamine, programmi struktu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uutuj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ndmetüüb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Lihtsad näited: rehkendamine, trükkim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eidi keerukamad näited: tsükl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5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ogrammi kirjutamise etapid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30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ting the program text into the computer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ing the program,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ning the compiled program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step - running the program - either 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program running without a www 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et- program running in a www 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Servle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program running in a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web)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6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Java: APPLIC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80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elloWorld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A program to display the mess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"Hello World!" on standard 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Hello World!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// end of class Hello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pileerime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va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elloWorld.jav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&gt;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HelloWorld.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me käsurealt käima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va Hello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nction call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with a definition that takes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that actually displays the messa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6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mpiler, bytecod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7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5664240" cy="113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xecuting bytecod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7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6933960" cy="2071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ogram class structur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34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gram is defined by a public class that takes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gram-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tional-variable-declarations-and-subrout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tional-variable-declarations-and-subrout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8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Variables &amp; primitive nam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12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 n  rate  x15   a_long_name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me_is_$   Hello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elloWorld, helloworld, HELLOWORLD, and hElloWorLD are all distinct na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rved words include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, public, static, if, else, while, and several dozen other wor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ssignment statement takes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te = 0.07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est = rate * principa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8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33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h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ery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 types built into it, and you (as a programmer) can create as many more as you wan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other than the primitive data type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the other data in a Java program will be represented as an o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So there is a fundamental split in the data a Java program deals with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--------------------+----------------------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                 |                      |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Primitive types       |       Objects        |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                 |                      |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--------------------+----------------------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T</cp:lastModifiedBy>
  <cp:revision>0</cp:revision>
  <dc:subject/>
  <dc:title> </dc:title>
</cp:coreProperties>
</file>